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9CF-8143-41E6-BB7C-12ACDEAB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ECA-6D1B-46D1-9439-FCECC1DB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0FADC-3E50-44FB-BA7E-9C39110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C8966-139E-4171-90E1-52033F1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5A40B-62D2-4473-9E4C-79EFA523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60F2B-E03C-490B-A795-2B402842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3A6F3-A16B-4D60-B2FD-626F5675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3FFFC-61AA-4E91-97BB-56AF373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692A3-E9F8-41BD-8EA1-57555FBC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EA8C1-6893-4BD1-A66E-BE98414C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E5D19-0765-41A4-BCC5-B2C41264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956-8517-4FCD-B0D1-F1520DA4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329-731D-432F-9215-14AFFA38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168D-3F36-4400-9D8E-A16DC3AA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BBC4-E7D2-4417-A21C-B67351E2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F034-5A9F-48D0-8B81-D79B4EDC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606F-9316-4E87-98FC-6B785956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2770-9F52-44C1-98BE-B0FC46C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E644-FFE9-473E-9797-F6F5B2FA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BD4E-E3F5-4214-B40D-BC26C1A0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1F2-2749-46DD-A6E1-F9B06315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5CBD-2C2D-41AE-A915-2754CC1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DD08-00BB-4652-B308-0BDE3DB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2999-0569-4DCC-88E2-ED7B5B1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C2E2-45A5-4C25-B137-D5658040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F62-3CCB-4971-92CF-FD682062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0D3F-5750-4249-A5A4-751FD015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56AA-C146-4272-8340-A2B29F76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1FFF-03E9-4CB1-808F-78F2A67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53BD-D346-4FF3-9B77-A10869E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B63A-71B9-4A9B-8499-B2A6E71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D7E-8A98-4A6A-A9D2-03CBD26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54F8-C6F0-4649-9D37-60F5525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8BFC-541E-4172-AC47-893AEB8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427C-3C9D-49F8-8717-00BBD74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2319-945D-4CCC-AC6E-BEFA7AA9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D2C3-972D-4D44-90A4-B5AD7106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19D0-5574-4EFC-A1A8-038E62FE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098F-4A33-4B8D-AB87-3C06070A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3496-45DD-4DF7-A94B-516BCCA3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742E-1D92-4425-8500-C161B50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8E0C8-5E01-49DA-9AD2-D8E4283F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DC2-33DB-447C-A832-131EB73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936A-A83D-474E-A9ED-8BE670E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5870-54BE-42CE-9051-D8554FDC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F089-4F50-489C-A617-98E5A65D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F083-CFF1-4E26-949D-AF1DD47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81CE-0038-4E4D-AB14-ADBA6A1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2282-B181-41FD-8BF5-E6C241D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E56E-875D-493B-8CEC-E9E98DA4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263C-68DD-4328-9CDB-BAAE4F42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E17F-BFC3-4196-911F-FC8BD82B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F0C8-71A2-43C5-96C1-8A936822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37D-26B1-4C79-90FA-824C207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A5DC-9655-4874-BC96-22FAAFF1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DAC7-5AD9-4045-9DC0-0BC0525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F4F3-8200-4A66-9E84-0BDA5A6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49AC-8FBD-4EAE-9356-8EEC228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007A2-18AC-4A03-8187-5A3F832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29C0-0ECC-484C-8385-8D692AEE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4B9D-5FB0-4D9A-A743-2A4A9B1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E069-FF21-47BC-91C8-17B7B77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6317-9405-453E-9254-589A7AE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82FF-DC02-475B-942C-D5808DCA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8A2-A106-4C76-8D63-ECF172B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AA1CD-AFEE-451E-BB5B-654DDD2E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F758-E966-4DF8-8091-56750103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03AFC-2104-41E5-913C-6FD2ED60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164F2-5B15-4F5D-81B8-5BBCD8BB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9B433-47BA-4532-872B-4FE4FDD9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5273D-45F7-4B28-9852-8D310E41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C8E7-4499-4B1E-8131-70BA891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B051D-48BC-45F2-A77E-A027007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6157-1060-44C7-8419-88F3525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7226A-8420-4C2B-83E0-3A1EAD6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98D-8A38-4DD1-8E02-BDBD152E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BF5B3-E6FB-45A5-90CC-D2C5C365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686EE-2605-42B7-B826-C78ACA16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B530-1952-4DC8-96DA-F8021974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97EDD-E4E8-4493-A5B5-D2FC1EDF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1C2D-BAED-4DA5-9C53-8F867725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74F5-DFA2-4658-AE63-74E5F72C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4F5A-4129-4325-9058-35A7BD9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3BB65-D203-496C-977D-11B03563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0D0F-0619-4FCD-85F9-3A6AD84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5588-5420-405F-B05D-9569E41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738-D90B-4439-9EBE-3538519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5922-1570-4F1E-8355-A3AC410B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29852-0C01-4FAE-A9D8-2C937D4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6F21-51CA-4CE8-9F7D-4FADCC01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6BFCD-61F7-415F-BD3B-139E7F04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0917-AB30-43C7-90F9-6072947B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65244-4E6E-435C-9E3D-2BF11F9F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0677-F256-4C61-B93C-BB01CE88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0568-85AA-4662-8725-C5518BCD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6BBE-C59D-4F94-94DA-F31E7C1F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F0000-5E37-427F-A04F-147A84D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0E4-1B62-4C94-959C-DCC855D9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E0DE-4BD9-44D4-9E9D-4AF1C95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F6FB-4ABA-4C2B-9780-320E07B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EC053-55F5-4EA6-8FE8-2869B2E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024A-4735-4DAA-83BE-693F026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6F6C-F726-4328-ACB7-BF0FC8E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12114-D8D5-4789-AAB1-C75C0FA9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F9C99-E29A-4AAA-979B-9597F11D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0DABD-550B-4F25-A101-641411C7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F58F0-3C21-4482-8042-FF8A614E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95DC1-1B08-43E0-9ADC-37E93EE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6C71-2D8B-458C-B904-ECF9A42AA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8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EDEF-59B1-4AA8-A04C-00A03B7F9E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04" name="任意多边形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7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B4BE-01A6-4D5E-AA88-AC4FE861F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A13-B3F2-4BF6-8313-A0A2B7640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82F-DC33-47F1-9A9C-F2E295D18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40F5-4B71-4328-BAD1-C5723C2788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1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676-F06A-4DFD-8BF5-D17C577B34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2C3-6E2E-4E81-963F-6499C4AA77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任意多边形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任意多边形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9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2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DC4B-ECD5-4368-A96D-CD6CE181B5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6"/>
          <p:cNvSpPr/>
          <p:nvPr/>
        </p:nvSpPr>
        <p:spPr>
          <a:xfrm>
            <a:off x="1577880" y="2881440"/>
            <a:ext cx="64994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师资格定期注册工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981080"/>
            <a:ext cx="8229600" cy="37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否参与注册”选择“是”、“是否参与网报”选择“否”，申请人申报第四步，给出提示信息：该机构注册工作目前未安排网上采集信息的时间，请与该机构联系，了解其注册工作的时间安排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否参与注册”选择“是”、“是否参与网报”选择“是”，但是还没到网报时间或者网报时间已过，申请人申报第四步，给出提示信息：您目前不能注册，该机构注册工作网上采集时间段为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*: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*:**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6" name="标题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519120" y="2151000"/>
            <a:ext cx="82296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未设初审计划或者“是否参与注册”选择“否”或“请选择”，申请人申报第四步，给出提示信息：该机构目前未开展注册工作，请与该机构联系，了解其注册工作的时间安排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否参与注册”选择“是”、“是否参与网报”选择“是”，且正在网报时间范围内，申请人可以正常从申报第四步进行到申报第五步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标题 1"/>
          <p:cNvSpPr/>
          <p:nvPr/>
        </p:nvSpPr>
        <p:spPr>
          <a:xfrm>
            <a:off x="336600" y="471600"/>
            <a:ext cx="858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准备阶段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--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机构设置初审注册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519120" y="215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基础管理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确认点管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基础管理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——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确认用户管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标题 1" descr=""/>
          <p:cNvPicPr/>
          <p:nvPr/>
        </p:nvPicPr>
        <p:blipFill>
          <a:blip r:embed="rId1"/>
          <a:stretch/>
        </p:blipFill>
        <p:spPr>
          <a:xfrm>
            <a:off x="268200" y="165240"/>
            <a:ext cx="8425080" cy="126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980720"/>
            <a:ext cx="8229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定期注册管理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|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安排确认点工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2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2"/>
          <a:stretch/>
        </p:blipFill>
        <p:spPr>
          <a:xfrm>
            <a:off x="446040" y="2990880"/>
            <a:ext cx="768672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82760" y="218736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如未设置确认时间和注意事项，系统提示信息：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省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市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**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县教育局目前没有安排确认点，请与该机构联系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5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标题 1" descr=""/>
          <p:cNvPicPr/>
          <p:nvPr/>
        </p:nvPicPr>
        <p:blipFill>
          <a:blip r:embed="rId1"/>
          <a:stretch/>
        </p:blipFill>
        <p:spPr>
          <a:xfrm>
            <a:off x="1189080" y="2182680"/>
            <a:ext cx="6315120" cy="148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82400" y="4889160"/>
            <a:ext cx="76150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已经注册过，直接登录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异常情况：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已经注册，填错了证件号码和证书号码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已经注册，填错了其他信息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找回密码：填错了邮箱（找回密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738360" y="1274760"/>
            <a:ext cx="7000560" cy="346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665280" y="1347840"/>
            <a:ext cx="7881840" cy="2643120"/>
          </a:xfrm>
          <a:prstGeom prst="rect">
            <a:avLst/>
          </a:prstGeom>
          <a:ln w="0">
            <a:noFill/>
          </a:ln>
        </p:spPr>
      </p:pic>
      <p:pic>
        <p:nvPicPr>
          <p:cNvPr id="541" name="标题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内容占位符 2"/>
          <p:cNvSpPr/>
          <p:nvPr/>
        </p:nvSpPr>
        <p:spPr>
          <a:xfrm>
            <a:off x="714240" y="4429080"/>
            <a:ext cx="761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内容占位符 2"/>
          <p:cNvSpPr/>
          <p:nvPr/>
        </p:nvSpPr>
        <p:spPr>
          <a:xfrm>
            <a:off x="701640" y="4232160"/>
            <a:ext cx="7615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身份证件号码必须填写二代身份证号码；证件号码不规范报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教师资格证书号码必须填写：证书上无号码；证书号码不规范（规范的证书号码为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位和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位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证书分类：在系统中（历史数据、当前批次认定数据）；不在系统中（不是历史数据和当前批次数据）；在限制库中；当前批次已经报过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322280" y="1347840"/>
            <a:ext cx="4743720" cy="3309840"/>
          </a:xfrm>
          <a:prstGeom prst="rect">
            <a:avLst/>
          </a:prstGeom>
          <a:ln w="0">
            <a:noFill/>
          </a:ln>
        </p:spPr>
      </p:pic>
      <p:pic>
        <p:nvPicPr>
          <p:cNvPr id="545" name="标题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6" name="内容占位符 2"/>
          <p:cNvSpPr/>
          <p:nvPr/>
        </p:nvSpPr>
        <p:spPr>
          <a:xfrm>
            <a:off x="701640" y="4925880"/>
            <a:ext cx="7615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证书在系统中；证书不在系统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证书签发日期在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996</a:t>
            </a: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2012</a:t>
            </a: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之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认定机构改名称后报给省教育厅，省教育厅汇总报给我们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任教学科可以为“无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机构的选择按照人事隶属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标题 1"/>
          <p:cNvSpPr/>
          <p:nvPr/>
        </p:nvSpPr>
        <p:spPr>
          <a:xfrm>
            <a:off x="1395360" y="2187720"/>
            <a:ext cx="5915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登录网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2557800" y="2333520"/>
            <a:ext cx="4277880" cy="3619080"/>
            <a:chOff x="2557800" y="2333520"/>
            <a:chExt cx="4277880" cy="3619080"/>
          </a:xfrm>
        </p:grpSpPr>
        <p:grpSp>
          <p:nvGrpSpPr>
            <p:cNvPr id="427" name="Group 3"/>
            <p:cNvGrpSpPr/>
            <p:nvPr/>
          </p:nvGrpSpPr>
          <p:grpSpPr>
            <a:xfrm>
              <a:off x="2557800" y="2333520"/>
              <a:ext cx="1186560" cy="3619080"/>
              <a:chOff x="2557800" y="2333520"/>
              <a:chExt cx="1186560" cy="3619080"/>
            </a:xfrm>
          </p:grpSpPr>
          <p:sp>
            <p:nvSpPr>
              <p:cNvPr id="428" name="Text Box 4"/>
              <p:cNvSpPr/>
              <p:nvPr/>
            </p:nvSpPr>
            <p:spPr>
              <a:xfrm>
                <a:off x="2660400" y="233352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1" action="ppaction://hlinksldjump"/>
                  </a:rPr>
                  <a:t>准备阶段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5"/>
              <p:cNvSpPr/>
              <p:nvPr/>
            </p:nvSpPr>
            <p:spPr>
              <a:xfrm>
                <a:off x="2660400" y="314712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2" action="ppaction://hlinksldjump"/>
                  </a:rPr>
                  <a:t>网上申报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7"/>
              <p:cNvSpPr/>
              <p:nvPr/>
            </p:nvSpPr>
            <p:spPr>
              <a:xfrm>
                <a:off x="2660400" y="392364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3" action="ppaction://hlinksldjump"/>
                  </a:rPr>
                  <a:t>现场确认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8"/>
              <p:cNvSpPr/>
              <p:nvPr/>
            </p:nvSpPr>
            <p:spPr>
              <a:xfrm>
                <a:off x="2557800" y="4698360"/>
                <a:ext cx="118656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4" action="ppaction://hlinksldjump"/>
                  </a:rPr>
                  <a:t>注册机构审批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1"/>
              <p:cNvSpPr/>
              <p:nvPr/>
            </p:nvSpPr>
            <p:spPr>
              <a:xfrm>
                <a:off x="3051360" y="283788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2"/>
              <p:cNvSpPr/>
              <p:nvPr/>
            </p:nvSpPr>
            <p:spPr>
              <a:xfrm>
                <a:off x="3102840" y="361224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3"/>
              <p:cNvSpPr/>
              <p:nvPr/>
            </p:nvSpPr>
            <p:spPr>
              <a:xfrm>
                <a:off x="3156840" y="4388400"/>
                <a:ext cx="0" cy="3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5"/>
              <p:cNvSpPr/>
              <p:nvPr/>
            </p:nvSpPr>
            <p:spPr>
              <a:xfrm>
                <a:off x="2714760" y="5477760"/>
                <a:ext cx="851400" cy="47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 u="sng">
                    <a:solidFill>
                      <a:srgbClr val="ff8119"/>
                    </a:solidFill>
                    <a:uFillTx/>
                    <a:latin typeface="Arial"/>
                    <a:hlinkClick r:id="rId5" action="ppaction://hlinksldjump"/>
                  </a:rPr>
                  <a:t>注册结束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7"/>
              <p:cNvSpPr/>
              <p:nvPr/>
            </p:nvSpPr>
            <p:spPr>
              <a:xfrm>
                <a:off x="3128400" y="5165280"/>
                <a:ext cx="0" cy="3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16"/>
            <p:cNvGrpSpPr/>
            <p:nvPr/>
          </p:nvGrpSpPr>
          <p:grpSpPr>
            <a:xfrm>
              <a:off x="4672080" y="4003920"/>
              <a:ext cx="2163600" cy="1744920"/>
              <a:chOff x="4672080" y="4003920"/>
              <a:chExt cx="2163600" cy="1744920"/>
            </a:xfrm>
          </p:grpSpPr>
          <p:sp>
            <p:nvSpPr>
              <p:cNvPr id="438" name="左大括号 14"/>
              <p:cNvSpPr/>
              <p:nvPr/>
            </p:nvSpPr>
            <p:spPr>
              <a:xfrm>
                <a:off x="4672080" y="4082400"/>
                <a:ext cx="162000" cy="1612440"/>
              </a:xfrm>
              <a:custGeom>
                <a:avLst/>
                <a:gdLst>
                  <a:gd name="textAreaLeft" fmla="*/ 103680 w 162000"/>
                  <a:gd name="textAreaRight" fmla="*/ 162360 w 162000"/>
                  <a:gd name="textAreaTop" fmla="*/ 2880 h 1612440"/>
                  <a:gd name="textAreaBottom" fmla="*/ 1609560 h 161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66"/>
                      <a:pt x="10800" y="132"/>
                    </a:cubicBezTo>
                    <a:lnTo>
                      <a:pt x="10800" y="10668"/>
                    </a:lnTo>
                    <a:cubicBezTo>
                      <a:pt x="10800" y="10734"/>
                      <a:pt x="5400" y="10800"/>
                      <a:pt x="0" y="10800"/>
                    </a:cubicBezTo>
                    <a:cubicBezTo>
                      <a:pt x="5400" y="10800"/>
                      <a:pt x="10800" y="10866"/>
                      <a:pt x="10800" y="10932"/>
                    </a:cubicBezTo>
                    <a:lnTo>
                      <a:pt x="10800" y="21468"/>
                    </a:lnTo>
                    <a:cubicBezTo>
                      <a:pt x="10800" y="21534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5"/>
              <p:cNvSpPr/>
              <p:nvPr/>
            </p:nvSpPr>
            <p:spPr>
              <a:xfrm>
                <a:off x="4996440" y="4003920"/>
                <a:ext cx="173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初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Box 16"/>
              <p:cNvSpPr/>
              <p:nvPr/>
            </p:nvSpPr>
            <p:spPr>
              <a:xfrm>
                <a:off x="5050440" y="4750920"/>
                <a:ext cx="173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复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17"/>
              <p:cNvSpPr/>
              <p:nvPr/>
            </p:nvSpPr>
            <p:spPr>
              <a:xfrm>
                <a:off x="5104800" y="5380560"/>
                <a:ext cx="173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终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TextBox 17"/>
          <p:cNvSpPr/>
          <p:nvPr/>
        </p:nvSpPr>
        <p:spPr>
          <a:xfrm>
            <a:off x="1504800" y="116532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定期注册流程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标题 1" descr=""/>
          <p:cNvPicPr/>
          <p:nvPr/>
        </p:nvPicPr>
        <p:blipFill>
          <a:blip r:embed="rId1"/>
          <a:stretch/>
        </p:blipFill>
        <p:spPr>
          <a:xfrm>
            <a:off x="438120" y="573120"/>
            <a:ext cx="4494240" cy="10429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914400" y="171288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机构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ukey.jszg.edu.cn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bKEY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登录地址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mimaka.jszg.edu.cn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（密码卡登录地址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确认机构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queren.jszg.edu.c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申请人报名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jszg.edu.c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标题 1" descr=""/>
          <p:cNvPicPr/>
          <p:nvPr/>
        </p:nvPicPr>
        <p:blipFill>
          <a:blip r:embed="rId1"/>
          <a:stretch/>
        </p:blipFill>
        <p:spPr>
          <a:xfrm>
            <a:off x="512640" y="500040"/>
            <a:ext cx="4711680" cy="1384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190080" y="1858680"/>
            <a:ext cx="8953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机构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www.jszg.cn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443/portal/home/auth/certLo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www.jszg.cn/portal/home/auth/otherAdminLo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确认机构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w.jszg.cn/portal/home/auth/confAdminLo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申请人：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w.jszg.c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7596360" y="291960"/>
            <a:ext cx="1554120" cy="5860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3"/>
          <p:cNvGrpSpPr/>
          <p:nvPr/>
        </p:nvGrpSpPr>
        <p:grpSpPr>
          <a:xfrm>
            <a:off x="792000" y="1341360"/>
            <a:ext cx="4956120" cy="2305080"/>
            <a:chOff x="792000" y="1341360"/>
            <a:chExt cx="4956120" cy="2305080"/>
          </a:xfrm>
        </p:grpSpPr>
        <p:sp>
          <p:nvSpPr>
            <p:cNvPr id="445" name="Text Box 5"/>
            <p:cNvSpPr/>
            <p:nvPr/>
          </p:nvSpPr>
          <p:spPr>
            <a:xfrm>
              <a:off x="792000" y="2206440"/>
              <a:ext cx="1655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在信息系统中上报全省注册计划：包括定期注册起止时间、初审起止时间、复核起止时间、终审起止时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通过网站、内部通知等多种形式发布定期注册工作相关信息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7"/>
            <p:cNvSpPr/>
            <p:nvPr/>
          </p:nvSpPr>
          <p:spPr>
            <a:xfrm>
              <a:off x="1171440" y="1341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省级管理用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8"/>
            <p:cNvSpPr/>
            <p:nvPr/>
          </p:nvSpPr>
          <p:spPr>
            <a:xfrm>
              <a:off x="4498920" y="1341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注册用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9"/>
            <p:cNvSpPr/>
            <p:nvPr/>
          </p:nvSpPr>
          <p:spPr>
            <a:xfrm>
              <a:off x="3913200" y="1822320"/>
              <a:ext cx="183492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在信息系统中设置本机构的注册计划（初审、复核或终审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初审注册用户在信息系统中设置现场确认点、建现场确认用户、安排现场确认时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初审注册用户确定进行现场确认的场所、设备及人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、通过报纸、网站、内部通知等多种形式发布定期注册工作相关信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2"/>
            <p:cNvSpPr/>
            <p:nvPr/>
          </p:nvSpPr>
          <p:spPr>
            <a:xfrm>
              <a:off x="2447640" y="364644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13"/>
          <p:cNvSpPr/>
          <p:nvPr/>
        </p:nvSpPr>
        <p:spPr>
          <a:xfrm>
            <a:off x="684360" y="6165720"/>
            <a:ext cx="865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>
            <a:off x="3132000" y="836640"/>
            <a:ext cx="0" cy="5192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6624720" y="2097000"/>
            <a:ext cx="1619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根据初审注册机构安排，做好现场确认点的场地、设备及人员准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指定专人保管登录系统的帐号和密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发布确认工作及确认点相关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7210440" y="123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确认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>
            <a:off x="5724360" y="3537000"/>
            <a:ext cx="9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用户即初审用户，涉及到区县教育局、市教育局和省教育厅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其中，区县教育局有一种角色：初审；市教育局有两种角色：初审和复核；省教育厅有三种角色：初审、复核和终审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注册结束后，注册机构所盖的章为初审机构的印章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7596360" y="291960"/>
            <a:ext cx="1554120" cy="58608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787320" y="6164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370160" y="1347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机构（确认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92000" y="3429000"/>
            <a:ext cx="23418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解答申请人填报过程的疑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完善现场确认准备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5699880" y="13622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申请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4753080" y="3357720"/>
            <a:ext cx="3708360" cy="17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阅读教师资格定期注册相关政策说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登录网上申报系统注册，填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修改申请资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打印教师资格定期注册申请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阅读现场确认注意事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准备其它相关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9"/>
          <p:cNvSpPr/>
          <p:nvPr/>
        </p:nvSpPr>
        <p:spPr>
          <a:xfrm>
            <a:off x="3095640" y="2133720"/>
            <a:ext cx="1908000" cy="466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定期注册开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1"/>
          <p:cNvSpPr/>
          <p:nvPr/>
        </p:nvSpPr>
        <p:spPr>
          <a:xfrm>
            <a:off x="2017800" y="242100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2017800" y="2421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5003640" y="2384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6445080" y="2384280"/>
            <a:ext cx="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4176720" y="441360"/>
            <a:ext cx="0" cy="6416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7388280" y="212760"/>
            <a:ext cx="1762200" cy="6285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6156360" y="1197000"/>
            <a:ext cx="2784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携带申请资料到现场确认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425600" y="8636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现场确认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6942960" y="793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申请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7074360" y="3284640"/>
            <a:ext cx="1186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核对网上所填写个人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6664320" y="4165560"/>
            <a:ext cx="1727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补全材料在指定时间和地点再次确认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863640" y="2025720"/>
            <a:ext cx="1584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核对网上填写信息与实际情况是否一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1108080" y="2709720"/>
            <a:ext cx="11192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修改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确认申请人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cc"/>
                </a:solidFill>
                <a:latin typeface="Arial"/>
              </a:rPr>
              <a:t>帮助申请人查看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747720" y="4135320"/>
            <a:ext cx="172872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材料是否齐全合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1047240" y="3429000"/>
            <a:ext cx="912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步审查申请材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1375920" y="6097680"/>
            <a:ext cx="54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材料上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1269000" y="1449360"/>
            <a:ext cx="729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登录确认系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7597800" y="1486080"/>
            <a:ext cx="3636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1"/>
          <p:cNvSpPr/>
          <p:nvPr/>
        </p:nvSpPr>
        <p:spPr>
          <a:xfrm>
            <a:off x="7632720" y="357336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2"/>
          <p:cNvSpPr/>
          <p:nvPr/>
        </p:nvSpPr>
        <p:spPr>
          <a:xfrm flipH="1">
            <a:off x="6048000" y="38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3"/>
          <p:cNvSpPr/>
          <p:nvPr/>
        </p:nvSpPr>
        <p:spPr>
          <a:xfrm flipV="1">
            <a:off x="6048360" y="18795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4"/>
          <p:cNvSpPr/>
          <p:nvPr/>
        </p:nvSpPr>
        <p:spPr>
          <a:xfrm flipV="1">
            <a:off x="6048360" y="38239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0"/>
          <p:cNvSpPr/>
          <p:nvPr/>
        </p:nvSpPr>
        <p:spPr>
          <a:xfrm flipH="1">
            <a:off x="1677960" y="1881360"/>
            <a:ext cx="43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1655640" y="173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1619280" y="2492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1619280" y="31766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1619280" y="3716280"/>
            <a:ext cx="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5"/>
          <p:cNvSpPr/>
          <p:nvPr/>
        </p:nvSpPr>
        <p:spPr>
          <a:xfrm>
            <a:off x="1619280" y="4724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1008000" y="476100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1315800" y="5192640"/>
            <a:ext cx="54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材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3"/>
          <p:cNvSpPr/>
          <p:nvPr/>
        </p:nvSpPr>
        <p:spPr>
          <a:xfrm>
            <a:off x="3059280" y="3897360"/>
            <a:ext cx="3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9"/>
          <p:cNvSpPr/>
          <p:nvPr/>
        </p:nvSpPr>
        <p:spPr>
          <a:xfrm>
            <a:off x="2050920" y="630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3"/>
          <p:cNvSpPr/>
          <p:nvPr/>
        </p:nvSpPr>
        <p:spPr>
          <a:xfrm>
            <a:off x="5003640" y="441360"/>
            <a:ext cx="0" cy="6416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5"/>
          <p:cNvSpPr/>
          <p:nvPr/>
        </p:nvSpPr>
        <p:spPr>
          <a:xfrm>
            <a:off x="7907400" y="6164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36"/>
          <p:cNvSpPr/>
          <p:nvPr/>
        </p:nvSpPr>
        <p:spPr>
          <a:xfrm>
            <a:off x="3481200" y="6129360"/>
            <a:ext cx="1095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册机构后续审批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7"/>
          <p:cNvSpPr/>
          <p:nvPr/>
        </p:nvSpPr>
        <p:spPr>
          <a:xfrm>
            <a:off x="2484360" y="442260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39"/>
          <p:cNvSpPr/>
          <p:nvPr/>
        </p:nvSpPr>
        <p:spPr>
          <a:xfrm>
            <a:off x="6048360" y="429264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40"/>
          <p:cNvSpPr/>
          <p:nvPr/>
        </p:nvSpPr>
        <p:spPr>
          <a:xfrm>
            <a:off x="1619280" y="548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5286240" y="4933800"/>
            <a:ext cx="33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意：不可擅自修改申请人信息。如若修改，必须有申请人的书面委托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7162920" y="341280"/>
            <a:ext cx="2090520" cy="5731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1531440" y="2060640"/>
            <a:ext cx="2131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核对确认申请人材料并给出确认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847800" y="2771640"/>
            <a:ext cx="4381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初审机构初步审查申请人材料并给出初审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863640" y="3419640"/>
            <a:ext cx="436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复核机构复核申请人信息并给出复核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2629080" y="5375160"/>
            <a:ext cx="3276360" cy="935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定期注册结束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申请表上有注册意见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教师资格证书上粘贴定期注册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6192720" y="2068560"/>
            <a:ext cx="18716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网查看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定期注册申报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待注册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定期注册审批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1542240" y="1279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6840360" y="1233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请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9"/>
          <p:cNvSpPr/>
          <p:nvPr/>
        </p:nvSpPr>
        <p:spPr>
          <a:xfrm>
            <a:off x="187164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0"/>
          <p:cNvSpPr/>
          <p:nvPr/>
        </p:nvSpPr>
        <p:spPr>
          <a:xfrm>
            <a:off x="1871640" y="31050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2"/>
          <p:cNvSpPr/>
          <p:nvPr/>
        </p:nvSpPr>
        <p:spPr>
          <a:xfrm>
            <a:off x="1871640" y="37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3"/>
          <p:cNvSpPr/>
          <p:nvPr/>
        </p:nvSpPr>
        <p:spPr>
          <a:xfrm>
            <a:off x="7081920" y="3392640"/>
            <a:ext cx="4608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0"/>
          <p:cNvSpPr/>
          <p:nvPr/>
        </p:nvSpPr>
        <p:spPr>
          <a:xfrm>
            <a:off x="1871640" y="4797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>
            <a:off x="4319640" y="4797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87320" y="61642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8119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6"/>
          <p:cNvSpPr/>
          <p:nvPr/>
        </p:nvSpPr>
        <p:spPr>
          <a:xfrm>
            <a:off x="5651640" y="441360"/>
            <a:ext cx="0" cy="6416640"/>
          </a:xfrm>
          <a:prstGeom prst="line">
            <a:avLst/>
          </a:prstGeom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920880" y="4086360"/>
            <a:ext cx="4308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终审机构终审申请人信息并给出终审意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>
            <a:off x="1870200" y="4414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432080" y="2260440"/>
            <a:ext cx="635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初审注册机构准备阶段所做选项与申请人报名对应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标题 1"/>
          <p:cNvSpPr/>
          <p:nvPr/>
        </p:nvSpPr>
        <p:spPr>
          <a:xfrm>
            <a:off x="555480" y="80028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准备阶段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1--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机构设置初审注册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内容占位符 2"/>
          <p:cNvSpPr/>
          <p:nvPr/>
        </p:nvSpPr>
        <p:spPr>
          <a:xfrm>
            <a:off x="592200" y="215100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5f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注册管理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设置本机构初审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139760" y="2844720"/>
            <a:ext cx="57531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54:55Z</dcterms:created>
  <dc:creator>Administrator</dc:creator>
  <dc:description/>
  <cp:keywords/>
  <dc:language>en-US</dc:language>
  <cp:lastModifiedBy>Lenovo User</cp:lastModifiedBy>
  <dcterms:modified xsi:type="dcterms:W3CDTF">2015-05-04T06:05:56Z</dcterms:modified>
  <cp:revision>1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